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49A-86C6-47F5-A05F-B6123E3D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652B-0CE3-4F24-9EEE-0AEB6B6E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5972-81F3-41A7-826D-41F09936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57D-08F0-4471-BC70-26A6F388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CAA1-149F-46D1-99C1-6D7DD375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3397-8D24-4122-BDCE-CB4E8F67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3F10-860B-4458-8F8F-DBE28E32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F163-C7C6-4AB0-9667-7ED04F47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98A-1E89-4255-86E2-3F1F0D8D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EE6-8C94-4E96-B038-FDC39ED5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CE5-BD4F-43B1-8FC4-ED5E84A8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377-8F8C-4195-A5E6-F3B984B2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49A2-9B13-4C29-8F51-A88D336DC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66600"/>
            <a:ext cx="792504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150840"/>
            <a:ext cx="899172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0160" y="0"/>
            <a:ext cx="69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479520"/>
            <a:ext cx="792468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7640"/>
            <a:ext cx="891540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76240" y="0"/>
            <a:ext cx="55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73080"/>
            <a:ext cx="838224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76040"/>
            <a:ext cx="891540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017720"/>
            <a:ext cx="914400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9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66840" y="0"/>
            <a:ext cx="48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250920"/>
            <a:ext cx="891540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90560" y="0"/>
            <a:ext cx="576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77760"/>
            <a:ext cx="9144000" cy="67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2:42:01Z</dcterms:created>
  <dc:creator>Patrick J. Mooney</dc:creator>
  <dc:description/>
  <dc:language>en-US</dc:language>
  <cp:lastModifiedBy>Patrick J. Mooney</cp:lastModifiedBy>
  <dcterms:modified xsi:type="dcterms:W3CDTF">2012-03-27T03:21:38Z</dcterms:modified>
  <cp:revision>2</cp:revision>
  <dc:subject/>
  <dc:title>Slide 1</dc:title>
</cp:coreProperties>
</file>